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6A3-10B6-4F7F-B286-D280CB37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429-C324-4D64-8947-8C9C648A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648-AD90-4085-959F-08114EFF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C63-C6DA-40E5-A921-55A422CA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12EB-4172-49BC-A7B3-EFD40A62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3243-7FC9-4D27-8B04-4539C1AE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0932-1E64-4FC0-AE86-B49202A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10C9-AC09-46DB-A1E9-503F2D0F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362F-070F-4780-8524-E9FC7003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BEB5-C1E4-4614-8A69-6C6F3CF9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F0D4-D674-4EA4-B1A9-7E4BAFAB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0CF-2AB2-4A2B-8A83-0A7E6C27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DD5D-E53E-4396-A636-5F3DE0E4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B123-75AC-4171-99FB-927D420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0A39-8307-4864-BE5C-8BC7788F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8561-F134-4A62-B4CA-A0DF62D7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8CF5-322C-4083-8AAE-152C3A6E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C2D-4489-4DEA-BA4C-0433C2CB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621-3B82-40CA-AD9E-8A0299E3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450-F978-4B3F-BF5E-22A08A92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F0C-662E-48F5-BA2B-C52C2132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D6B-CE8E-4CFF-8C09-C3553FAD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697-DFBA-47E7-BD50-478E9CFC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BD7-56D9-4CFF-8CA1-4C67567F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AF76-7D39-4206-8948-226DC9D460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6360-C033-49AA-B51B-B0FB76F3B0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e, Reuse, and Recyc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Cj04135240000[1]"/>
          <p:cNvPicPr/>
          <p:nvPr/>
        </p:nvPicPr>
        <p:blipFill>
          <a:blip r:embed="rId1"/>
          <a:stretch/>
        </p:blipFill>
        <p:spPr>
          <a:xfrm>
            <a:off x="533520" y="3505320"/>
            <a:ext cx="2590560" cy="24778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Reduce, Reuse, and Recycle."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EHS Kids' P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13 June 2007. 1 Oct. 2007 &lt;http://kids.niehs.nih.gov/recycle.htm&gt;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to Energy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y Kid’s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2006. 1 Oc. 2007 &lt;http://www.eia.doe.gov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Wast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is anything released into the environment that could have a negative impact on that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American throws away 4.5 pounds of trash (waste) a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could be anything from paper to diapers or food to batter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Cj04344510000[1]"/>
          <p:cNvPicPr/>
          <p:nvPr/>
        </p:nvPicPr>
        <p:blipFill>
          <a:blip r:embed="rId1"/>
          <a:stretch/>
        </p:blipFill>
        <p:spPr>
          <a:xfrm>
            <a:off x="5257800" y="76320"/>
            <a:ext cx="15620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I do to help?: The Three R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means to make something smaller or use less, resulting in a smaller amount of was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ing something means to use a material again in its original form, or to give it to someone else who can u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ycling is when you save a reusable material and take it to where it can be made into something ne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MCj02328920000[1]"/>
          <p:cNvPicPr/>
          <p:nvPr/>
        </p:nvPicPr>
        <p:blipFill>
          <a:blip r:embed="rId1"/>
          <a:stretch/>
        </p:blipFill>
        <p:spPr>
          <a:xfrm>
            <a:off x="228600" y="4952880"/>
            <a:ext cx="11905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DUC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less; buy only what you need and use all of what you bu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urable items instead of disposable ones.  For example, buy plastic plates that you can used many times instead of paper ones that you throw away after one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 store bags.  Carry the items you purchase from the store by hand, or bring your own cloth bag to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MPj03877650000[1]"/>
          <p:cNvPicPr/>
          <p:nvPr/>
        </p:nvPicPr>
        <p:blipFill>
          <a:blip r:embed="rId1"/>
          <a:stretch/>
        </p:blipFill>
        <p:spPr>
          <a:xfrm>
            <a:off x="5791320" y="228600"/>
            <a:ext cx="1087200" cy="15238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US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ate used clothes to Goodwill or other char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loth diapers instead of disposable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bicycle breaks, fix it instead of throwing it away and getting a new bi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" action="ppaction://hlinkshowjump?jump=nex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MPj02161700000[1]"/>
          <p:cNvPicPr/>
          <p:nvPr/>
        </p:nvPicPr>
        <p:blipFill>
          <a:blip r:embed="rId1"/>
          <a:stretch/>
        </p:blipFill>
        <p:spPr>
          <a:xfrm>
            <a:off x="5562720" y="22860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CYCL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everything at home and school can be recycled!  Check to see how your community recy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hrow anything away that can be recycled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ecyclable material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tic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Cj04299870000[1]"/>
          <p:cNvPicPr/>
          <p:nvPr/>
        </p:nvPicPr>
        <p:blipFill>
          <a:blip r:embed="rId1"/>
          <a:stretch/>
        </p:blipFill>
        <p:spPr>
          <a:xfrm>
            <a:off x="4724280" y="3886200"/>
            <a:ext cx="1730520" cy="18097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z: Which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e of the three R’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Cj04344110000[1]"/>
          <p:cNvPicPr/>
          <p:nvPr/>
        </p:nvPicPr>
        <p:blipFill>
          <a:blip r:embed="rId1"/>
          <a:stretch/>
        </p:blipFill>
        <p:spPr>
          <a:xfrm>
            <a:off x="4343400" y="2666880"/>
            <a:ext cx="2844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ps!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back and read, then try agai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4238520000[1]"/>
          <p:cNvPicPr/>
          <p:nvPr/>
        </p:nvPicPr>
        <p:blipFill>
          <a:blip r:embed="rId1"/>
          <a:stretch/>
        </p:blipFill>
        <p:spPr>
          <a:xfrm>
            <a:off x="2971800" y="2819520"/>
            <a:ext cx="2922480" cy="3733560"/>
          </a:xfrm>
          <a:prstGeom prst="rect">
            <a:avLst/>
          </a:prstGeom>
          <a:ln w="0">
            <a:noFill/>
          </a:ln>
        </p:spPr>
      </p:pic>
      <p:pic>
        <p:nvPicPr>
          <p:cNvPr id="125" name="MSj01795.wav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76960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9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!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correc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Cj04280650000[1]"/>
          <p:cNvPicPr/>
          <p:nvPr/>
        </p:nvPicPr>
        <p:blipFill>
          <a:blip r:embed="rId1"/>
          <a:stretch/>
        </p:blipFill>
        <p:spPr>
          <a:xfrm>
            <a:off x="1523880" y="2819520"/>
            <a:ext cx="6324840" cy="38559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>
            <a:hlinkClick r:id="" action="ppaction://hlinkshowjump?jump=nextslide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Sj01795.wav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9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3:43:54Z</dcterms:created>
  <dc:creator>Sony</dc:creator>
  <dc:description/>
  <dc:language>en-US</dc:language>
  <cp:lastModifiedBy>Victoria Joy</cp:lastModifiedBy>
  <dcterms:modified xsi:type="dcterms:W3CDTF">2012-04-17T17:55:06Z</dcterms:modified>
  <cp:revision>17</cp:revision>
  <dc:subject/>
  <dc:title>Recycling</dc:title>
</cp:coreProperties>
</file>